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372-9472-43BF-A2AD-DF59CC25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CCD-E4A5-4F8B-9475-5782AC79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8EE-C640-4FD2-A3DD-604219FB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1371-BFAF-418F-B932-9E053B82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1A3-C3D9-4603-A062-2840288C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EF0-8685-4842-BF90-3D5D0CFD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5CE-B864-4155-BCE2-871A4272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68E-6D5E-42B9-84B2-43997FA0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0E9-63A7-4290-8D1B-66621F70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549-59D6-43A2-A4B5-5C295793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6EA-7E77-4515-B334-032078C8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4A2-CF8F-4D23-B74C-DDC23658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932B-AFC5-44B4-9FB9-4E40B9F2B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 de abril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8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el examen del capitulo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-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ersonajes latinos famos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es famoso Sammy So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es considerado una persona muy bu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es Sergio Garc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 llaman “el Niño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-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Vocabul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1905120" cy="865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4800600" y="990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7391520" y="1676520"/>
            <a:ext cx="1600200" cy="156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5"/>
          <a:stretch/>
        </p:blipFill>
        <p:spPr>
          <a:xfrm>
            <a:off x="76320" y="4419720"/>
            <a:ext cx="2057400" cy="1623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6"/>
          <a:stretch/>
        </p:blipFill>
        <p:spPr>
          <a:xfrm>
            <a:off x="2209680" y="4572000"/>
            <a:ext cx="1492200" cy="1609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7"/>
          <a:stretch/>
        </p:blipFill>
        <p:spPr>
          <a:xfrm>
            <a:off x="3886200" y="4495680"/>
            <a:ext cx="1676520" cy="149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8"/>
          <a:stretch/>
        </p:blipFill>
        <p:spPr>
          <a:xfrm>
            <a:off x="5943600" y="4648320"/>
            <a:ext cx="1244520" cy="146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9"/>
          <a:stretch/>
        </p:blipFill>
        <p:spPr>
          <a:xfrm>
            <a:off x="7391520" y="4191120"/>
            <a:ext cx="1531800" cy="1638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54000" y="3581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644560" y="3581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4930560" y="3581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7240320" y="3581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1440" y="4343400"/>
            <a:ext cx="478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H="1" flipV="1">
            <a:off x="304560" y="4648320"/>
            <a:ext cx="609480" cy="3808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135160" y="6172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430440" y="5958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5616360" y="6186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215120" y="5729400"/>
            <a:ext cx="15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2636640"/>
            <a:ext cx="90676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I- </a:t>
            </a:r>
            <a:r>
              <a:rPr b="1" lang="es-ES_tradnl" sz="3200" spc="-1" strike="noStrike" u="sng">
                <a:solidFill>
                  <a:srgbClr val="008000"/>
                </a:solidFill>
                <a:uFillTx/>
                <a:latin typeface="Arial"/>
              </a:rPr>
              <a:t>Si o 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un partido de futbol dos equipos ju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lase es interesante porque me abur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espectador lanza el balón y mete un g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y un pícher, me gusta jugar balonc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portero bloquea el balón, no entra en la porter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28600" y="0"/>
            <a:ext cx="230976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2314440" cy="19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6781680" y="277920"/>
            <a:ext cx="1981440" cy="143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440" y="1523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H="1" flipV="1">
            <a:off x="609120" y="1828440"/>
            <a:ext cx="762120" cy="152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592360" y="5335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V="1">
            <a:off x="1981080" y="990720"/>
            <a:ext cx="83844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897280" y="18288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 flipH="1">
            <a:off x="3429000" y="1828800"/>
            <a:ext cx="838080" cy="3049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800600" y="2133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5334120" y="129528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6707160" y="18288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320" y="759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II- </a:t>
            </a:r>
            <a:r>
              <a:rPr b="1" lang="es-ES_tradnl" sz="3200" spc="-1" strike="noStrike" u="sng">
                <a:solidFill>
                  <a:srgbClr val="008000"/>
                </a:solidFill>
                <a:uFillTx/>
                <a:latin typeface="Arial"/>
              </a:rPr>
              <a:t>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e with the correct form of the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na ____________ a jugar a las dos. (empe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 en el equipo de futbol. (jug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_________ mirar el juego de baloncesto. (prefer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equipos no _________ perder. (quer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, un equipo siempre ________. (pe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________ a casa para mirar el partido en la tele. (vol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 para el EXAMEN del Capitulo 1 el PROXIMO VI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book: p. 2-29; p.34-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fu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, O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eis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aloncesto,basque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deportes en el mundo hisp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pa Mund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Anat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0:48:52Z</dcterms:created>
  <dc:creator>Helen Zumaeta</dc:creator>
  <dc:description/>
  <dc:language>en-US</dc:language>
  <cp:lastModifiedBy>Helen Zumaeta</cp:lastModifiedBy>
  <cp:lastPrinted>2013-04-02T12:28:18Z</cp:lastPrinted>
  <dcterms:modified xsi:type="dcterms:W3CDTF">2013-04-02T15:05:07Z</dcterms:modified>
  <cp:revision>15</cp:revision>
  <dc:subject/>
  <dc:title>Me llamo _______ Clase 7 IM La fecha es el 9 de marzo del 2011</dc:title>
</cp:coreProperties>
</file>